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907588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7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715680" y="740880"/>
            <a:ext cx="535140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8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9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D0F0-ADAF-46F8-B1CA-AB377BD82B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33D0-B897-45D6-9A39-D50D604673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716040" y="741240"/>
            <a:ext cx="5351400" cy="37054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4680" y="4691160"/>
            <a:ext cx="49719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C600-FE4D-4D77-AB9F-6DCEB321A0B4}" type="slidenum">
              <a:rPr b="0" lang="en-US" sz="1200" spc="-1" strike="noStrike">
                <a:solidFill>
                  <a:srgbClr val="5f606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16040" y="741240"/>
            <a:ext cx="5351400" cy="3705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7880" y="4694040"/>
            <a:ext cx="542592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84978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8520" y="3981960"/>
            <a:ext cx="84978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308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8520" y="398196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3080" y="398196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1680" y="143784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04840" y="143784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8520" y="398196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1680" y="398196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04840" y="398196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8520" y="1437840"/>
            <a:ext cx="84978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84978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41468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3080" y="1437840"/>
            <a:ext cx="41468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5640" y="182160"/>
            <a:ext cx="73375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3080" y="1437840"/>
            <a:ext cx="41468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58520" y="398196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8520" y="1437840"/>
            <a:ext cx="84978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41468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308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3080" y="398196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308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58520" y="3981960"/>
            <a:ext cx="84978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84978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58520" y="3981960"/>
            <a:ext cx="84978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308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58520" y="398196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3080" y="398196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31680" y="143784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04840" y="143784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58520" y="398196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31680" y="398196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04840" y="398196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259D8-4C96-4C2B-B518-88FD62C25B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58520" y="1437840"/>
            <a:ext cx="84978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91580-0E8B-4B22-8CAA-84BF7023AA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84978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67C96-5006-4E56-A4F5-7E3F8C8221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41468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13080" y="1437840"/>
            <a:ext cx="41468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D0AA9-0ED7-40F0-A6F8-12074EEFFE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7D9F5-B4B7-4AE0-89DE-B060291136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84978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55640" y="182160"/>
            <a:ext cx="73375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67F04-917A-4C76-8A8D-852284025B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13080" y="1437840"/>
            <a:ext cx="41468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58520" y="398196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E2381-EF2F-4757-84C7-F32D15A6E3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41468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308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13080" y="398196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5BA5C-C450-43B4-98ED-082B99626C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308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58520" y="3981960"/>
            <a:ext cx="84978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2E165-E84B-4066-B526-BCE0556FD7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84978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58520" y="3981960"/>
            <a:ext cx="84978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E9E92-4169-4880-89B3-6F585D0AE7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308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58520" y="398196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13080" y="398196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B2FF2-5133-4CD5-AE21-30948EE58B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631680" y="143784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04840" y="143784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58520" y="398196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631680" y="398196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04840" y="398196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AE710-E5F5-4547-BEFD-C500B7524C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58520" y="1437840"/>
            <a:ext cx="84978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84978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41468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3080" y="1437840"/>
            <a:ext cx="41468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41468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13080" y="1437840"/>
            <a:ext cx="41468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55640" y="182160"/>
            <a:ext cx="73375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13080" y="1437840"/>
            <a:ext cx="41468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58520" y="398196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41468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1308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13080" y="398196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1308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58520" y="3981960"/>
            <a:ext cx="84978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84978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58520" y="3981960"/>
            <a:ext cx="84978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308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58520" y="398196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13080" y="398196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631680" y="143784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4840" y="143784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58520" y="398196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631680" y="398196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504840" y="3981960"/>
            <a:ext cx="27360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2160"/>
            <a:ext cx="73375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3080" y="1437840"/>
            <a:ext cx="41468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8520" y="398196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41468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308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3080" y="398196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3080" y="1437840"/>
            <a:ext cx="414684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8520" y="3981960"/>
            <a:ext cx="849780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537400" y="0"/>
            <a:ext cx="719280" cy="1042920"/>
          </a:xfrm>
          <a:prstGeom prst="rect">
            <a:avLst/>
          </a:prstGeom>
          <a:solidFill>
            <a:srgbClr val="b31e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606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8520" y="1437840"/>
            <a:ext cx="84978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15000"/>
              </a:lnSpc>
              <a:spcBef>
                <a:spcPts val="97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6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  <a:p>
            <a:pPr lvl="1" marL="809640" indent="-266760">
              <a:lnSpc>
                <a:spcPct val="115000"/>
              </a:lnSpc>
              <a:spcBef>
                <a:spcPts val="975"/>
              </a:spcBef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6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  <a:p>
            <a:pPr lvl="2" marL="1343160" indent="-266760">
              <a:lnSpc>
                <a:spcPct val="115000"/>
              </a:lnSpc>
              <a:spcBef>
                <a:spcPts val="975"/>
              </a:spcBef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6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  <a:p>
            <a:pPr lvl="3" marL="1886040" indent="-266760">
              <a:lnSpc>
                <a:spcPct val="115000"/>
              </a:lnSpc>
              <a:spcBef>
                <a:spcPts val="975"/>
              </a:spcBef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6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  <a:p>
            <a:pPr lvl="4" marL="2419200" indent="-266400">
              <a:lnSpc>
                <a:spcPct val="115000"/>
              </a:lnSpc>
              <a:spcBef>
                <a:spcPts val="975"/>
              </a:spcBef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6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  <a:p>
            <a:pPr lvl="5" marL="2419200" indent="-266400">
              <a:lnSpc>
                <a:spcPct val="115000"/>
              </a:lnSpc>
              <a:spcBef>
                <a:spcPts val="975"/>
              </a:spcBef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6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  <a:p>
            <a:pPr lvl="6" marL="2419200" indent="-266400">
              <a:lnSpc>
                <a:spcPct val="115000"/>
              </a:lnSpc>
              <a:spcBef>
                <a:spcPts val="975"/>
              </a:spcBef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6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58520" y="6462360"/>
            <a:ext cx="611820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920" y="1042920"/>
            <a:ext cx="9180360" cy="0"/>
          </a:xfrm>
          <a:prstGeom prst="line">
            <a:avLst/>
          </a:prstGeom>
          <a:ln w="15120">
            <a:solidFill>
              <a:srgbClr val="afa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6062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69280" y="5772240"/>
            <a:ext cx="103968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61800" y="0"/>
            <a:ext cx="9183960" cy="4700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236080" y="5504040"/>
            <a:ext cx="1388880" cy="1174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71720" y="1914480"/>
            <a:ext cx="5467320" cy="19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758520" y="6462720"/>
            <a:ext cx="6118200" cy="1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8360" y="953280"/>
            <a:ext cx="642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tional Financial Reporting Standards</a:t>
            </a:r>
            <a:endParaRPr b="0" lang="en-US" sz="1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8880" y="5811840"/>
            <a:ext cx="404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6062"/>
                </a:solidFill>
                <a:latin typeface="Arial"/>
              </a:rPr>
              <a:t>The views expressed in this presentation are those of the presenter, </a:t>
            </a:r>
            <a:br>
              <a:rPr sz="1000"/>
            </a:br>
            <a:r>
              <a:rPr b="0" lang="en-US" sz="1000" spc="-1" strike="noStrike">
                <a:solidFill>
                  <a:srgbClr val="5f6062"/>
                </a:solidFill>
                <a:latin typeface="Arial"/>
              </a:rPr>
              <a:t>not necessarily those of the IASC Foundation or the IASB</a:t>
            </a:r>
            <a:endParaRPr b="0" lang="en-US" sz="10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360360" indent="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6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6062"/>
              </a:solidFill>
              <a:latin typeface="Arial"/>
            </a:endParaRPr>
          </a:p>
          <a:p>
            <a:pPr lvl="2" marL="712800" indent="363600" algn="ctr">
              <a:lnSpc>
                <a:spcPct val="110000"/>
              </a:lnSpc>
              <a:buClr>
                <a:srgbClr val="5f6062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6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6062"/>
              </a:solidFill>
              <a:latin typeface="Arial"/>
            </a:endParaRPr>
          </a:p>
          <a:p>
            <a:pPr lvl="3" marL="1073160" indent="546120" algn="ctr">
              <a:lnSpc>
                <a:spcPct val="110000"/>
              </a:lnSpc>
              <a:buClr>
                <a:srgbClr val="5f6062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62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lvl="4" marL="1433520" indent="719280" algn="ctr">
              <a:lnSpc>
                <a:spcPct val="110000"/>
              </a:lnSpc>
              <a:buClr>
                <a:srgbClr val="5f6062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62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lvl="5" marL="1433520" indent="719280">
              <a:spcBef>
                <a:spcPts val="550"/>
              </a:spcBef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62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lvl="6" marL="1433520" indent="719280">
              <a:spcBef>
                <a:spcPts val="550"/>
              </a:spcBef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62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537400" y="0"/>
            <a:ext cx="719280" cy="1042920"/>
          </a:xfrm>
          <a:prstGeom prst="rect">
            <a:avLst/>
          </a:prstGeom>
          <a:solidFill>
            <a:srgbClr val="b31e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606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8520" y="1437840"/>
            <a:ext cx="84978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15000"/>
              </a:lnSpc>
              <a:spcBef>
                <a:spcPts val="97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6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  <a:p>
            <a:pPr lvl="1" marL="809640" indent="-266760">
              <a:lnSpc>
                <a:spcPct val="115000"/>
              </a:lnSpc>
              <a:spcBef>
                <a:spcPts val="975"/>
              </a:spcBef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6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  <a:p>
            <a:pPr lvl="2" marL="1343160" indent="-266760">
              <a:lnSpc>
                <a:spcPct val="115000"/>
              </a:lnSpc>
              <a:spcBef>
                <a:spcPts val="975"/>
              </a:spcBef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6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  <a:p>
            <a:pPr lvl="3" marL="1886040" indent="-266760">
              <a:lnSpc>
                <a:spcPct val="115000"/>
              </a:lnSpc>
              <a:spcBef>
                <a:spcPts val="975"/>
              </a:spcBef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6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  <a:p>
            <a:pPr lvl="4" marL="2419200" indent="-266400">
              <a:lnSpc>
                <a:spcPct val="115000"/>
              </a:lnSpc>
              <a:spcBef>
                <a:spcPts val="975"/>
              </a:spcBef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6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  <a:p>
            <a:pPr lvl="5" marL="2419200" indent="-266400">
              <a:lnSpc>
                <a:spcPct val="115000"/>
              </a:lnSpc>
              <a:spcBef>
                <a:spcPts val="975"/>
              </a:spcBef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6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  <a:p>
            <a:pPr lvl="6" marL="2419200" indent="-266400">
              <a:lnSpc>
                <a:spcPct val="115000"/>
              </a:lnSpc>
              <a:spcBef>
                <a:spcPts val="975"/>
              </a:spcBef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6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758520" y="6462360"/>
            <a:ext cx="611820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5f606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6062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4"/>
          </p:nvPr>
        </p:nvSpPr>
        <p:spPr>
          <a:xfrm>
            <a:off x="8553600" y="711360"/>
            <a:ext cx="684000" cy="19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C40E-25DF-4AC7-B017-4AB96210111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920" y="1042920"/>
            <a:ext cx="9180360" cy="0"/>
          </a:xfrm>
          <a:prstGeom prst="line">
            <a:avLst/>
          </a:prstGeom>
          <a:ln w="15120">
            <a:solidFill>
              <a:srgbClr val="afa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60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61800" y="0"/>
            <a:ext cx="9182160" cy="4700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236080" y="5504040"/>
            <a:ext cx="1388880" cy="1174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771720" y="1914480"/>
            <a:ext cx="5467320" cy="19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5"/>
          </p:nvPr>
        </p:nvSpPr>
        <p:spPr>
          <a:xfrm>
            <a:off x="759960" y="371520"/>
            <a:ext cx="1744920" cy="2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06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5AA0-75DB-48C6-A31B-7C927870B206}" type="datetime3">
              <a:rPr b="0" lang="en-US" sz="1200" spc="-1" strike="noStrike">
                <a:solidFill>
                  <a:srgbClr val="5f6062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6"/>
          </p:nvPr>
        </p:nvSpPr>
        <p:spPr>
          <a:xfrm>
            <a:off x="758520" y="6462720"/>
            <a:ext cx="6118200" cy="1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5f606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6062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8360" y="953280"/>
            <a:ext cx="642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tional Financial Reporting Standards</a:t>
            </a:r>
            <a:endParaRPr b="0" lang="en-US" sz="16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8880" y="5811840"/>
            <a:ext cx="404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6062"/>
                </a:solidFill>
                <a:latin typeface="Arial"/>
              </a:rPr>
              <a:t>The views expressed in this presentation are those of the presenter, </a:t>
            </a:r>
            <a:br>
              <a:rPr sz="1000"/>
            </a:br>
            <a:r>
              <a:rPr b="0" lang="en-US" sz="1000" spc="-1" strike="noStrike">
                <a:solidFill>
                  <a:srgbClr val="5f6062"/>
                </a:solidFill>
                <a:latin typeface="Arial"/>
              </a:rPr>
              <a:t>not necessarily those of the IASC Foundation or the IASB</a:t>
            </a:r>
            <a:endParaRPr b="0" lang="en-US" sz="1000" spc="-1" strike="noStrike">
              <a:solidFill>
                <a:srgbClr val="5f60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770280" y="1914480"/>
            <a:ext cx="546732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IFRS and XBRL </a:t>
            </a:r>
            <a:br>
              <a:rPr sz="3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 Ideal Combination?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771720" y="3962520"/>
            <a:ext cx="54673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uesday 3</a:t>
            </a:r>
            <a:r>
              <a:rPr b="0" lang="en-US" sz="15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March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8 IASC Foundation.  First Floor  |  30 Cannon Street  |  London EC4M 6XH  |  UK.  www.iasb.org</a:t>
            </a: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5440" y="182160"/>
            <a:ext cx="79930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62"/>
                </a:solidFill>
                <a:latin typeface="Arial"/>
              </a:rPr>
              <a:t>Why XBRL could be part of IFRS conversion</a:t>
            </a:r>
            <a:endParaRPr b="1" lang="en-US" sz="28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360" y="1125000"/>
            <a:ext cx="90662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50000"/>
              </a:lnSpc>
              <a:spcBef>
                <a:spcPts val="751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62"/>
                </a:solidFill>
                <a:latin typeface="Arial"/>
              </a:rPr>
              <a:t>Better understanding of concepts</a:t>
            </a:r>
            <a:endParaRPr b="0" lang="en-US" sz="20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spcBef>
                <a:spcPts val="751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62"/>
                </a:solidFill>
                <a:latin typeface="Arial"/>
              </a:rPr>
              <a:t>Simplifies early adoption of new standards</a:t>
            </a:r>
            <a:endParaRPr b="0" lang="en-US" sz="20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spcBef>
                <a:spcPts val="751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62"/>
                </a:solidFill>
                <a:latin typeface="Arial"/>
              </a:rPr>
              <a:t>Test opportunity and quality control</a:t>
            </a:r>
            <a:endParaRPr b="0" lang="en-US" sz="20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spcBef>
                <a:spcPts val="751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62"/>
                </a:solidFill>
                <a:latin typeface="Arial"/>
              </a:rPr>
              <a:t>Production and presentation of financial statements</a:t>
            </a:r>
            <a:endParaRPr b="0" lang="en-US" sz="20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spcBef>
                <a:spcPts val="751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62"/>
                </a:solidFill>
                <a:latin typeface="Arial"/>
              </a:rPr>
              <a:t>Mapping of concepts</a:t>
            </a:r>
            <a:endParaRPr b="0" lang="en-US" sz="20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spcBef>
                <a:spcPts val="751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62"/>
                </a:solidFill>
                <a:latin typeface="Arial"/>
              </a:rPr>
              <a:t>Accounting packages are already compatible</a:t>
            </a:r>
            <a:endParaRPr b="0" lang="en-US" sz="20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spcBef>
                <a:spcPts val="751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62"/>
                </a:solidFill>
                <a:latin typeface="Arial"/>
              </a:rPr>
              <a:t>No significant extra cost</a:t>
            </a:r>
            <a:endParaRPr b="0" lang="en-US" sz="20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8 IASC Foundation.  First Floor  |  30 Cannon Street  |  London EC4M 6XH  |  UK.  www.iasb.org</a:t>
            </a: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f6062"/>
                </a:solidFill>
                <a:latin typeface="Arial"/>
              </a:rPr>
              <a:t>Translations of IFRS and IFRS Taxonomy</a:t>
            </a:r>
            <a:endParaRPr b="1" lang="en-US" sz="28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84978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1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62"/>
                </a:solidFill>
                <a:latin typeface="Arial"/>
              </a:rPr>
              <a:t>We manage the translation of IFRSs into over 40 languages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62"/>
                </a:solidFill>
                <a:latin typeface="Arial"/>
              </a:rPr>
              <a:t>After professional translation, a review committee of experts approves the translation 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62"/>
                </a:solidFill>
                <a:latin typeface="Arial"/>
              </a:rPr>
              <a:t>Our policy is to create only one high-quality translation per language 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lvl="1" marL="809640" indent="-266760">
              <a:lnSpc>
                <a:spcPct val="110000"/>
              </a:lnSpc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62"/>
                </a:solidFill>
                <a:latin typeface="Arial"/>
              </a:rPr>
              <a:t>Quality – a two step process of professional translation and expert review</a:t>
            </a:r>
            <a:endParaRPr b="0" lang="en-US" sz="2000" spc="-1" strike="noStrike">
              <a:solidFill>
                <a:srgbClr val="5f6062"/>
              </a:solidFill>
              <a:latin typeface="Arial"/>
            </a:endParaRPr>
          </a:p>
          <a:p>
            <a:pPr lvl="1" marL="809640" indent="-266760">
              <a:lnSpc>
                <a:spcPct val="110000"/>
              </a:lnSpc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62"/>
                </a:solidFill>
                <a:latin typeface="Arial"/>
              </a:rPr>
              <a:t>Control – only through owning the translation copyright are we able to provide the translation to governments </a:t>
            </a:r>
            <a:endParaRPr b="0" lang="en-US" sz="2000" spc="-1" strike="noStrike">
              <a:solidFill>
                <a:srgbClr val="5f6062"/>
              </a:solidFill>
              <a:latin typeface="Arial"/>
            </a:endParaRPr>
          </a:p>
          <a:p>
            <a:pPr lvl="1" marL="809640" indent="-266760">
              <a:lnSpc>
                <a:spcPct val="110000"/>
              </a:lnSpc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62"/>
                </a:solidFill>
                <a:latin typeface="Arial"/>
              </a:rPr>
              <a:t>Consistency – we can ensure IFRS brand integrity through a consistent processes and terminology</a:t>
            </a:r>
            <a:endParaRPr b="0" lang="en-US" sz="20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62"/>
                </a:solidFill>
                <a:latin typeface="Arial"/>
              </a:rPr>
              <a:t>Translation of XBRL labels is part of the Process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11518" t="0" r="12773" b="0"/>
          <a:stretch/>
        </p:blipFill>
        <p:spPr>
          <a:xfrm>
            <a:off x="1857240" y="476280"/>
            <a:ext cx="5759640" cy="5705280"/>
          </a:xfrm>
          <a:prstGeom prst="rect">
            <a:avLst/>
          </a:prstGeom>
          <a:ln w="9360">
            <a:solidFill>
              <a:srgbClr val="5f606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8 IASC Foundation.  First Floor  |  30 Cannon Street  |  London EC4M 6XH  |  UK.  www.iasb.org</a:t>
            </a: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6062"/>
                </a:solidFill>
                <a:latin typeface="Arial"/>
              </a:rPr>
              <a:t>Extending the IFRS Taxonomy</a:t>
            </a: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84978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15000"/>
              </a:lnSpc>
              <a:spcBef>
                <a:spcPts val="751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6062"/>
                </a:solidFill>
                <a:latin typeface="Arial"/>
                <a:ea typeface="ＭＳ Ｐゴシック"/>
              </a:rPr>
              <a:t>Background</a:t>
            </a:r>
            <a:endParaRPr b="0" lang="en-US" sz="2000" spc="-1" strike="noStrike">
              <a:solidFill>
                <a:srgbClr val="5f6062"/>
              </a:solidFill>
              <a:latin typeface="Arial"/>
            </a:endParaRPr>
          </a:p>
          <a:p>
            <a:pPr lvl="1" marL="809640" indent="-266760">
              <a:lnSpc>
                <a:spcPct val="110000"/>
              </a:lnSpc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6062"/>
                </a:solidFill>
                <a:latin typeface="Arial"/>
                <a:ea typeface="ＭＳ Ｐゴシック"/>
              </a:rPr>
              <a:t>Some first use cases have shown that it is difficult to use the IFRS taxonomy without extensions</a:t>
            </a:r>
            <a:endParaRPr b="0" lang="en-US" sz="2000" spc="-1" strike="noStrike">
              <a:solidFill>
                <a:srgbClr val="5f6062"/>
              </a:solidFill>
              <a:latin typeface="Arial"/>
            </a:endParaRPr>
          </a:p>
          <a:p>
            <a:pPr lvl="1" marL="809640" indent="-266760">
              <a:lnSpc>
                <a:spcPct val="110000"/>
              </a:lnSpc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6062"/>
                </a:solidFill>
                <a:latin typeface="Arial"/>
                <a:ea typeface="ＭＳ Ｐゴシック"/>
              </a:rPr>
              <a:t>Multiple and inconsistent extensions development could lead to incomparability</a:t>
            </a:r>
            <a:endParaRPr b="0" lang="en-US" sz="20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751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6062"/>
                </a:solidFill>
                <a:latin typeface="Arial"/>
              </a:rPr>
              <a:t>IFRS Taxonomy Extensions are common practice reporting items which, despite not being explicitly named, are addressed in the IFRSs as additional and relevant disclosures.</a:t>
            </a:r>
            <a:endParaRPr b="0" lang="en-US" sz="20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751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6062"/>
                </a:solidFill>
                <a:latin typeface="Arial"/>
              </a:rPr>
              <a:t>Today, the scope IASCF XBRL Team is limited to providing clear guidance on how building Extensions</a:t>
            </a:r>
            <a:endParaRPr b="0" lang="en-US" sz="20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8 IASC Foundation.  First Floor  |  30 Cannon Street  |  London EC4M 6XH  |  UK.  www.iasb.org</a:t>
            </a: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92160" y="2241720"/>
            <a:ext cx="345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5f6062"/>
                </a:solidFill>
                <a:latin typeface="Arial"/>
              </a:rPr>
              <a:t> </a:t>
            </a:r>
            <a:r>
              <a:rPr b="0" lang="fr-BE" sz="2200" spc="-1" strike="noStrike">
                <a:solidFill>
                  <a:srgbClr val="5f6062"/>
                </a:solidFill>
                <a:latin typeface="Arial"/>
              </a:rPr>
              <a:t>xbrl@iasb.org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>
              <a:buClr>
                <a:srgbClr val="5f6062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5f6062"/>
                </a:solidFill>
                <a:latin typeface="Arial"/>
              </a:rPr>
              <a:t> </a:t>
            </a:r>
            <a:r>
              <a:rPr b="0" lang="fr-BE" sz="2200" spc="-1" strike="noStrike">
                <a:solidFill>
                  <a:srgbClr val="5f6062"/>
                </a:solidFill>
                <a:latin typeface="Arial"/>
              </a:rPr>
              <a:t>+44 (0)207 246 6410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f6062"/>
              </a:buClr>
              <a:buFont typeface="Web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5f6062"/>
                </a:solidFill>
                <a:latin typeface="Lucida Sans Unicode"/>
              </a:rPr>
              <a:t> </a:t>
            </a:r>
            <a:r>
              <a:rPr b="0" lang="fr-FR" sz="2200" spc="-1" strike="noStrike">
                <a:solidFill>
                  <a:srgbClr val="5f6062"/>
                </a:solidFill>
                <a:latin typeface="Arial"/>
              </a:rPr>
              <a:t>www.</a:t>
            </a:r>
            <a:r>
              <a:rPr b="0" lang="en-GB" sz="2200" spc="-1" strike="noStrike">
                <a:solidFill>
                  <a:srgbClr val="5f6062"/>
                </a:solidFill>
                <a:latin typeface="Arial"/>
              </a:rPr>
              <a:t>iasb.org/xbrl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f6062"/>
                </a:solidFill>
                <a:latin typeface="Arial"/>
              </a:rPr>
              <a:t>Contact us</a:t>
            </a: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21240" y="1557360"/>
            <a:ext cx="5092560" cy="3819600"/>
          </a:xfrm>
          <a:prstGeom prst="rect">
            <a:avLst/>
          </a:prstGeom>
          <a:ln w="9360">
            <a:solidFill>
              <a:srgbClr val="5f606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8 IASC Foundation.  First Floor  |  30 Cannon Street  |  London EC4M 6XH  |  UK.  www.iasb.org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5f6062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58520" y="1509840"/>
            <a:ext cx="849780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15000"/>
              </a:lnSpc>
              <a:spcBef>
                <a:spcPts val="1049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62"/>
                </a:solidFill>
                <a:latin typeface="Arial"/>
              </a:rPr>
              <a:t>XBRL @ IASCF and IASB?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1049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62"/>
                </a:solidFill>
                <a:latin typeface="Arial"/>
              </a:rPr>
              <a:t>What do we provide?</a:t>
            </a:r>
            <a:endParaRPr b="0" lang="en-US" sz="28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97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62"/>
                </a:solidFill>
                <a:latin typeface="Arial"/>
              </a:rPr>
              <a:t>Practical use of IFRS taxonomy</a:t>
            </a: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  <a:p>
            <a:pPr lvl="1" marL="809640" indent="-266760">
              <a:lnSpc>
                <a:spcPct val="110000"/>
              </a:lnSpc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62"/>
                </a:solidFill>
                <a:latin typeface="Arial"/>
              </a:rPr>
              <a:t>Trends in adoption and implementation</a:t>
            </a:r>
            <a:endParaRPr b="0" lang="en-US" sz="2400" spc="-1" strike="noStrike">
              <a:solidFill>
                <a:srgbClr val="5f6062"/>
              </a:solidFill>
              <a:latin typeface="Arial"/>
            </a:endParaRPr>
          </a:p>
          <a:p>
            <a:pPr lvl="1" marL="809640" indent="-266760">
              <a:lnSpc>
                <a:spcPct val="110000"/>
              </a:lnSpc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62"/>
                </a:solidFill>
                <a:latin typeface="Arial"/>
              </a:rPr>
              <a:t>XBRL for IFRS conversion</a:t>
            </a:r>
            <a:endParaRPr b="0" lang="en-US" sz="2400" spc="-1" strike="noStrike">
              <a:solidFill>
                <a:srgbClr val="5f6062"/>
              </a:solidFill>
              <a:latin typeface="Arial"/>
            </a:endParaRPr>
          </a:p>
          <a:p>
            <a:pPr lvl="1" marL="809640" indent="-266760">
              <a:lnSpc>
                <a:spcPct val="110000"/>
              </a:lnSpc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62"/>
                </a:solidFill>
                <a:latin typeface="Arial"/>
              </a:rPr>
              <a:t>Translations of IFRS and IFRS Taxonomy</a:t>
            </a:r>
            <a:endParaRPr b="0" lang="en-US" sz="2400" spc="-1" strike="noStrike">
              <a:solidFill>
                <a:srgbClr val="5f6062"/>
              </a:solidFill>
              <a:latin typeface="Arial"/>
            </a:endParaRPr>
          </a:p>
          <a:p>
            <a:pPr lvl="1" marL="809640" indent="-266760">
              <a:lnSpc>
                <a:spcPct val="110000"/>
              </a:lnSpc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62"/>
                </a:solidFill>
                <a:latin typeface="Arial"/>
              </a:rPr>
              <a:t>Extending the IFRS Taxonomy</a:t>
            </a:r>
            <a:endParaRPr b="0" lang="en-US" sz="2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8 IASC Foundation.  First Floor  |  30 Cannon Street  |  London EC4M 6XH  |  UK.  www.iasb.org</a:t>
            </a: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f6062"/>
                </a:solidFill>
                <a:latin typeface="Arial"/>
              </a:rPr>
              <a:t>IASB and IASC Foundation</a:t>
            </a: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469908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15000"/>
              </a:lnSpc>
              <a:spcBef>
                <a:spcPts val="97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62"/>
                </a:solidFill>
                <a:latin typeface="Arial"/>
              </a:rPr>
              <a:t>The IASC Foundation is the oversight body of the IASB and promotes activities in support of IFRS</a:t>
            </a: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97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62"/>
                </a:solidFill>
                <a:latin typeface="Arial"/>
              </a:rPr>
              <a:t>IASB is made of 14 members making the Standards and has the technical expertise</a:t>
            </a: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</p:txBody>
      </p:sp>
      <p:pic>
        <p:nvPicPr>
          <p:cNvPr id="183" name="Picture 5" descr="IASB_Structure"/>
          <p:cNvPicPr/>
          <p:nvPr/>
        </p:nvPicPr>
        <p:blipFill>
          <a:blip r:embed="rId1"/>
          <a:stretch/>
        </p:blipFill>
        <p:spPr>
          <a:xfrm>
            <a:off x="5673600" y="1773360"/>
            <a:ext cx="3535560" cy="3062160"/>
          </a:xfrm>
          <a:prstGeom prst="rect">
            <a:avLst/>
          </a:prstGeom>
          <a:ln w="9360">
            <a:solidFill>
              <a:srgbClr val="5f6062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8 IASC Foundation.  First Floor  |  30 Cannon Street  |  London EC4M 6XH  |  UK.  www.iasb.org</a:t>
            </a: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f6062"/>
                </a:solidFill>
                <a:latin typeface="Arial"/>
              </a:rPr>
              <a:t>XBRL at the IASC Foundation</a:t>
            </a: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8520" y="1197000"/>
            <a:ext cx="8497800" cy="25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3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62"/>
                </a:solidFill>
                <a:latin typeface="Arial"/>
              </a:rPr>
              <a:t>Trustees’ Decision in 2001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62"/>
                </a:solidFill>
                <a:latin typeface="Arial"/>
              </a:rPr>
              <a:t>Part of the adoption and implementation of IFRSs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62"/>
                </a:solidFill>
                <a:latin typeface="Arial"/>
              </a:rPr>
              <a:t>Quality-assurance of the IFRS Taxonomy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3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62"/>
                </a:solidFill>
                <a:latin typeface="Arial"/>
              </a:rPr>
              <a:t>Maintenance and coordination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76160" y="3498840"/>
            <a:ext cx="8498160" cy="2522520"/>
            <a:chOff x="776160" y="3498840"/>
            <a:chExt cx="8498160" cy="2522520"/>
          </a:xfrm>
        </p:grpSpPr>
        <p:sp>
          <p:nvSpPr>
            <p:cNvPr id="187" name=""/>
            <p:cNvSpPr/>
            <p:nvPr/>
          </p:nvSpPr>
          <p:spPr>
            <a:xfrm>
              <a:off x="776160" y="4797360"/>
              <a:ext cx="849816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1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5f6062"/>
                  </a:solidFill>
                  <a:latin typeface="Arial"/>
                </a:rPr>
                <a:t>The Mission of the IASC Foundation XBRL team: to provide users with an IFRS XBRL taxonomy </a:t>
              </a:r>
              <a:r>
                <a:rPr b="0" lang="en-GB" sz="2200" spc="-1" strike="noStrike">
                  <a:solidFill>
                    <a:srgbClr val="5f6062"/>
                  </a:solidFill>
                  <a:latin typeface="Arial"/>
                </a:rPr>
                <a:t>with the same quality, in the same languages and at the same time as the IFRSs</a:t>
              </a:r>
              <a:endParaRPr b="0" lang="en-US" sz="2200" spc="-1" strike="noStrike">
                <a:solidFill>
                  <a:srgbClr val="5f6062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89240" y="3498840"/>
              <a:ext cx="5327640" cy="1081080"/>
            </a:xfrm>
            <a:prstGeom prst="downArrow">
              <a:avLst>
                <a:gd name="adj1" fmla="val 56037"/>
                <a:gd name="adj2" fmla="val 57120"/>
              </a:avLst>
            </a:prstGeom>
            <a:solidFill>
              <a:srgbClr val="b31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6062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8 IASC Foundation.  First Floor  |  30 Cannon Street  |  London EC4M 6XH  |  UK.  www.iasb.org</a:t>
            </a: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f6062"/>
                </a:solidFill>
                <a:latin typeface="Arial"/>
              </a:rPr>
              <a:t>Why XBRL at IASB?</a:t>
            </a: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8520" y="1628280"/>
            <a:ext cx="849780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1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6062"/>
                </a:solidFill>
                <a:latin typeface="Arial"/>
              </a:rPr>
              <a:t>XBRL is the </a:t>
            </a:r>
            <a:r>
              <a:rPr b="0" i="1" lang="en-GB" sz="2200" spc="-1" strike="noStrike">
                <a:solidFill>
                  <a:srgbClr val="5f6062"/>
                </a:solidFill>
                <a:latin typeface="Arial"/>
              </a:rPr>
              <a:t>de facto</a:t>
            </a:r>
            <a:r>
              <a:rPr b="0" lang="en-GB" sz="2200" spc="-1" strike="noStrike">
                <a:solidFill>
                  <a:srgbClr val="5f6062"/>
                </a:solidFill>
                <a:latin typeface="Arial"/>
              </a:rPr>
              <a:t> standard for electronic reporting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6062"/>
                </a:solidFill>
                <a:latin typeface="Arial"/>
              </a:rPr>
              <a:t>Part of the development of IFRSs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lvl="1" marL="809640" indent="-266760">
              <a:lnSpc>
                <a:spcPct val="110000"/>
              </a:lnSpc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6062"/>
                </a:solidFill>
                <a:latin typeface="Arial"/>
              </a:rPr>
              <a:t>IASB goal: to provide high quality standards (IAS 1 par 9)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lvl="1" marL="809640" indent="-266760">
              <a:lnSpc>
                <a:spcPct val="110000"/>
              </a:lnSpc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6062"/>
                </a:solidFill>
                <a:latin typeface="Arial"/>
              </a:rPr>
              <a:t>Organizing the Presentation of Financial Statements (i.e. True and Fair view - Framework 46)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lvl="1" marL="809640" indent="-266760">
              <a:lnSpc>
                <a:spcPct val="110000"/>
              </a:lnSpc>
              <a:buClr>
                <a:srgbClr val="5f60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6062"/>
                </a:solidFill>
                <a:latin typeface="Arial"/>
              </a:rPr>
              <a:t>Codification of concepts (help in convergence)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6062"/>
                </a:solidFill>
                <a:latin typeface="Arial"/>
              </a:rPr>
              <a:t>Improved access for users to financial information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6062"/>
                </a:solidFill>
                <a:latin typeface="Arial"/>
              </a:rPr>
              <a:t>Could increase the range of users (i.e. translation)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6062"/>
                </a:solidFill>
                <a:latin typeface="Arial"/>
              </a:rPr>
              <a:t>Could ease IFRS conversion, understanding and  implementation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8 IASC Foundation.  First Floor  |  30 Cannon Street  |  London EC4M 6XH  |  UK.  www.iasb.org</a:t>
            </a: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f6062"/>
                </a:solidFill>
                <a:latin typeface="Arial"/>
              </a:rPr>
              <a:t>What do we provide</a:t>
            </a: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8880" y="1437840"/>
            <a:ext cx="880272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f6062"/>
                </a:solidFill>
                <a:latin typeface="Arial"/>
              </a:rPr>
              <a:t>What do we provide</a:t>
            </a: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6062"/>
                </a:solidFill>
                <a:latin typeface="Arial"/>
              </a:rPr>
              <a:t>A licence-free IFRS Taxonomy consistent with IFRS Bound Volume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6062"/>
                </a:solidFill>
                <a:latin typeface="Arial"/>
              </a:rPr>
              <a:t>Translations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6062"/>
                </a:solidFill>
                <a:latin typeface="Arial"/>
              </a:rPr>
              <a:t>Viewers, documentation and tools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6062"/>
                </a:solidFill>
                <a:latin typeface="Arial"/>
              </a:rPr>
              <a:t>Assistance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marL="266760" indent="0">
              <a:lnSpc>
                <a:spcPct val="11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f6062"/>
                </a:solidFill>
                <a:latin typeface="Arial"/>
              </a:rPr>
              <a:t>What do we not provide</a:t>
            </a:r>
            <a:endParaRPr b="0" lang="en-US" sz="26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6062"/>
                </a:solidFill>
                <a:latin typeface="Arial"/>
              </a:rPr>
              <a:t>Industry extensions (i.e. financial institutions)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6062"/>
                </a:solidFill>
                <a:latin typeface="Arial"/>
              </a:rPr>
              <a:t>Comments on implementation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8 IASC Foundation.  First Floor  |  30 Cannon Street  |  London EC4M 6XH  |  UK.  www.iasb.org</a:t>
            </a: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2"/>
          <p:cNvSpPr/>
          <p:nvPr/>
        </p:nvSpPr>
        <p:spPr>
          <a:xfrm>
            <a:off x="5745240" y="2924280"/>
            <a:ext cx="0" cy="1728720"/>
          </a:xfrm>
          <a:prstGeom prst="line">
            <a:avLst/>
          </a:prstGeom>
          <a:ln cap="rnd" w="38160">
            <a:solidFill>
              <a:srgbClr val="5f606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43920"/>
            <a:ext cx="697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f6062"/>
                </a:solidFill>
                <a:latin typeface="Arial"/>
              </a:rPr>
              <a:t>IFRS Taxonomy 2009 </a:t>
            </a:r>
            <a:br>
              <a:rPr sz="3200"/>
            </a:br>
            <a:r>
              <a:rPr b="1" lang="en-GB" sz="2200" spc="-1" strike="noStrike">
                <a:solidFill>
                  <a:srgbClr val="5f6062"/>
                </a:solidFill>
                <a:latin typeface="Arial"/>
              </a:rPr>
              <a:t>Development and release timeline</a:t>
            </a:r>
            <a:endParaRPr b="1" lang="en-US" sz="2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789120" y="3645000"/>
            <a:ext cx="3881160" cy="718920"/>
          </a:xfrm>
          <a:custGeom>
            <a:avLst/>
            <a:gdLst>
              <a:gd name="textAreaLeft" fmla="*/ 0 w 3881160"/>
              <a:gd name="textAreaRight" fmla="*/ 3881520 w 388116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81" y="0"/>
                </a:lnTo>
                <a:lnTo>
                  <a:pt x="21600" y="10800"/>
                </a:lnTo>
                <a:lnTo>
                  <a:pt x="19581" y="21600"/>
                </a:lnTo>
                <a:lnTo>
                  <a:pt x="0" y="21600"/>
                </a:lnTo>
                <a:lnTo>
                  <a:pt x="2019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5f6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5f6062"/>
                </a:solidFill>
                <a:latin typeface="Arial"/>
              </a:rPr>
              <a:t>IFRS Taxonomy 2009 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5f6062"/>
                </a:solidFill>
                <a:latin typeface="Arial"/>
              </a:rPr>
              <a:t>Improvement development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560520" y="3141720"/>
            <a:ext cx="878508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5961240" y="3645000"/>
            <a:ext cx="1750680" cy="718920"/>
          </a:xfrm>
          <a:custGeom>
            <a:avLst/>
            <a:gdLst>
              <a:gd name="textAreaLeft" fmla="*/ 0 w 1750680"/>
              <a:gd name="textAreaRight" fmla="*/ 1751040 w 175068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44" y="0"/>
                </a:lnTo>
                <a:lnTo>
                  <a:pt x="21600" y="10800"/>
                </a:lnTo>
                <a:lnTo>
                  <a:pt x="18144" y="21600"/>
                </a:lnTo>
                <a:lnTo>
                  <a:pt x="0" y="21600"/>
                </a:lnTo>
                <a:lnTo>
                  <a:pt x="3456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5f6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6062"/>
                </a:solidFill>
                <a:latin typeface="Arial"/>
              </a:rPr>
              <a:t>Public 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6062"/>
                </a:solidFill>
                <a:latin typeface="Arial"/>
              </a:rPr>
              <a:t>review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489240" y="3268800"/>
            <a:ext cx="577080" cy="307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5542200" y="3268800"/>
            <a:ext cx="577080" cy="307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02640" y="270972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3366"/>
                </a:solidFill>
                <a:latin typeface="Arial"/>
              </a:rPr>
              <a:t>Sept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01" name="Line 13"/>
          <p:cNvSpPr/>
          <p:nvPr/>
        </p:nvSpPr>
        <p:spPr>
          <a:xfrm flipV="1">
            <a:off x="806400" y="2997000"/>
            <a:ext cx="0" cy="215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02" name="Line 14"/>
          <p:cNvSpPr/>
          <p:nvPr/>
        </p:nvSpPr>
        <p:spPr>
          <a:xfrm flipV="1">
            <a:off x="3567240" y="2997000"/>
            <a:ext cx="0" cy="215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03" name="Line 15"/>
          <p:cNvSpPr/>
          <p:nvPr/>
        </p:nvSpPr>
        <p:spPr>
          <a:xfrm flipV="1">
            <a:off x="4592520" y="2997000"/>
            <a:ext cx="0" cy="215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04" name="Line 16"/>
          <p:cNvSpPr/>
          <p:nvPr/>
        </p:nvSpPr>
        <p:spPr>
          <a:xfrm flipV="1">
            <a:off x="5529240" y="2997000"/>
            <a:ext cx="0" cy="215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05" name="Line 17"/>
          <p:cNvSpPr/>
          <p:nvPr/>
        </p:nvSpPr>
        <p:spPr>
          <a:xfrm flipV="1">
            <a:off x="8786880" y="2997000"/>
            <a:ext cx="0" cy="215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06" name="Text Box 29"/>
          <p:cNvSpPr/>
          <p:nvPr/>
        </p:nvSpPr>
        <p:spPr>
          <a:xfrm>
            <a:off x="3352680" y="27097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3366"/>
                </a:solidFill>
                <a:latin typeface="Arial"/>
              </a:rPr>
              <a:t>Nov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4419360" y="270972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3366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08" name="Text Box 32"/>
          <p:cNvSpPr/>
          <p:nvPr/>
        </p:nvSpPr>
        <p:spPr>
          <a:xfrm>
            <a:off x="8570880" y="27097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3366"/>
                </a:solidFill>
                <a:latin typeface="Arial"/>
              </a:rPr>
              <a:t>Apr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09" name="AutoShape 34"/>
          <p:cNvSpPr/>
          <p:nvPr/>
        </p:nvSpPr>
        <p:spPr>
          <a:xfrm>
            <a:off x="4521240" y="3645000"/>
            <a:ext cx="1079640" cy="71892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777" y="0"/>
                </a:lnTo>
                <a:lnTo>
                  <a:pt x="21600" y="10800"/>
                </a:lnTo>
                <a:lnTo>
                  <a:pt x="14777" y="21600"/>
                </a:lnTo>
                <a:lnTo>
                  <a:pt x="0" y="21600"/>
                </a:lnTo>
                <a:lnTo>
                  <a:pt x="6823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5f6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5f6062"/>
                </a:solidFill>
                <a:latin typeface="Arial"/>
              </a:rPr>
              <a:t>XQRT review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10" name="AutoShape 39"/>
          <p:cNvSpPr/>
          <p:nvPr/>
        </p:nvSpPr>
        <p:spPr>
          <a:xfrm>
            <a:off x="7558200" y="3645000"/>
            <a:ext cx="1234800" cy="718920"/>
          </a:xfrm>
          <a:custGeom>
            <a:avLst/>
            <a:gdLst>
              <a:gd name="textAreaLeft" fmla="*/ 0 w 1234800"/>
              <a:gd name="textAreaRight" fmla="*/ 1235160 w 123480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553" y="0"/>
                </a:lnTo>
                <a:lnTo>
                  <a:pt x="21600" y="10800"/>
                </a:lnTo>
                <a:lnTo>
                  <a:pt x="15553" y="21600"/>
                </a:lnTo>
                <a:lnTo>
                  <a:pt x="0" y="21600"/>
                </a:lnTo>
                <a:lnTo>
                  <a:pt x="6047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5f6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6062"/>
                </a:solidFill>
                <a:latin typeface="Arial"/>
              </a:rPr>
              <a:t>Internal 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6062"/>
                </a:solidFill>
                <a:latin typeface="Arial"/>
              </a:rPr>
              <a:t>     </a:t>
            </a:r>
            <a:r>
              <a:rPr b="0" i="1" lang="en-US" sz="1400" spc="-1" strike="noStrike">
                <a:solidFill>
                  <a:srgbClr val="5f6062"/>
                </a:solidFill>
                <a:latin typeface="Arial"/>
              </a:rPr>
              <a:t>update (IU)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V="1">
            <a:off x="2319480" y="2997000"/>
            <a:ext cx="0" cy="215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2102400" y="27097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3366"/>
                </a:solidFill>
                <a:latin typeface="Arial"/>
              </a:rPr>
              <a:t>Oct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13" name="Line 16"/>
          <p:cNvSpPr/>
          <p:nvPr/>
        </p:nvSpPr>
        <p:spPr>
          <a:xfrm flipV="1">
            <a:off x="6680160" y="2997000"/>
            <a:ext cx="0" cy="215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14" name="Text Box 31"/>
          <p:cNvSpPr/>
          <p:nvPr/>
        </p:nvSpPr>
        <p:spPr>
          <a:xfrm>
            <a:off x="6465240" y="270972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3366"/>
                </a:solidFill>
                <a:latin typeface="Arial"/>
              </a:rPr>
              <a:t>Feb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 flipV="1">
            <a:off x="7866000" y="2997000"/>
            <a:ext cx="0" cy="215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16" name="Text Box 31"/>
          <p:cNvSpPr/>
          <p:nvPr/>
        </p:nvSpPr>
        <p:spPr>
          <a:xfrm>
            <a:off x="7651080" y="27097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3366"/>
                </a:solidFill>
                <a:latin typeface="Arial"/>
              </a:rPr>
              <a:t>Mar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17" name="AutoShape 39"/>
          <p:cNvSpPr/>
          <p:nvPr/>
        </p:nvSpPr>
        <p:spPr>
          <a:xfrm>
            <a:off x="5445000" y="3645000"/>
            <a:ext cx="660600" cy="718920"/>
          </a:xfrm>
          <a:custGeom>
            <a:avLst/>
            <a:gdLst>
              <a:gd name="textAreaLeft" fmla="*/ 0 w 660600"/>
              <a:gd name="textAreaRight" fmla="*/ 660960 w 66060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31" y="0"/>
                </a:lnTo>
                <a:lnTo>
                  <a:pt x="21600" y="10800"/>
                </a:lnTo>
                <a:lnTo>
                  <a:pt x="11631" y="21600"/>
                </a:lnTo>
                <a:lnTo>
                  <a:pt x="0" y="21600"/>
                </a:lnTo>
                <a:lnTo>
                  <a:pt x="9969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5f6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6062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6120" y="4653000"/>
            <a:ext cx="83066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6062"/>
                </a:solidFill>
                <a:latin typeface="Arial"/>
              </a:rPr>
              <a:t>XQRT review : 1 Dec 2008 – 19 Dec 2008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6062"/>
                </a:solidFill>
                <a:latin typeface="Arial"/>
              </a:rPr>
              <a:t>Public Review of the Exposure Draft : 12 Jan 2009 – 12 Mar 2009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6062"/>
                </a:solidFill>
                <a:latin typeface="Arial"/>
              </a:rPr>
              <a:t>Publication of the IFRS Bound Volume 2009: early March 2009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6062"/>
                </a:solidFill>
                <a:latin typeface="Arial"/>
              </a:rPr>
              <a:t>Final Release of the IFRS Taxonomy 2009 : early April 2009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5528520" y="27097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3366"/>
                </a:solidFill>
                <a:latin typeface="Arial"/>
              </a:rPr>
              <a:t>Jan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77960" y="1486080"/>
            <a:ext cx="1944720" cy="934920"/>
          </a:xfrm>
          <a:prstGeom prst="cloudCallout">
            <a:avLst>
              <a:gd name="adj1" fmla="val 52041"/>
              <a:gd name="adj2" fmla="val 82259"/>
            </a:avLst>
          </a:prstGeom>
          <a:noFill/>
          <a:ln w="9360">
            <a:solidFill>
              <a:srgbClr val="5f6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6062"/>
                </a:solidFill>
                <a:latin typeface="Arial"/>
              </a:rPr>
              <a:t>Circulation to XQRT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5f6062"/>
                </a:solidFill>
                <a:latin typeface="Arial"/>
              </a:rPr>
              <a:t>1 Dec 08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21240" y="1486080"/>
            <a:ext cx="2592360" cy="934920"/>
          </a:xfrm>
          <a:prstGeom prst="cloudCallout">
            <a:avLst>
              <a:gd name="adj1" fmla="val -6217"/>
              <a:gd name="adj2" fmla="val 82259"/>
            </a:avLst>
          </a:prstGeom>
          <a:noFill/>
          <a:ln w="9360">
            <a:solidFill>
              <a:srgbClr val="5f6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6062"/>
                </a:solidFill>
                <a:latin typeface="Arial"/>
              </a:rPr>
              <a:t>Published ED IFRS Taxonomy 2009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5f6062"/>
                </a:solidFill>
                <a:latin typeface="Arial"/>
              </a:rPr>
              <a:t>12 Jan 09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13600" y="1486080"/>
            <a:ext cx="2647800" cy="934920"/>
          </a:xfrm>
          <a:prstGeom prst="cloudCallout">
            <a:avLst>
              <a:gd name="adj1" fmla="val 19486"/>
              <a:gd name="adj2" fmla="val 82259"/>
            </a:avLst>
          </a:prstGeom>
          <a:noFill/>
          <a:ln w="9360">
            <a:solidFill>
              <a:srgbClr val="5f6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6062"/>
                </a:solidFill>
                <a:latin typeface="Arial"/>
              </a:rPr>
              <a:t>Final Release IFRS Taxonomy 2009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5f6062"/>
                </a:solidFill>
                <a:latin typeface="Arial"/>
              </a:rPr>
              <a:t>Early April 09</a:t>
            </a:r>
            <a:endParaRPr b="0" lang="en-US" sz="1400" spc="-1" strike="noStrike">
              <a:solidFill>
                <a:srgbClr val="5f6062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97600" y="2421000"/>
            <a:ext cx="758880" cy="1224000"/>
          </a:xfrm>
          <a:prstGeom prst="rect">
            <a:avLst/>
          </a:prstGeom>
          <a:ln w="9360">
            <a:solidFill>
              <a:srgbClr val="5f6062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8 IASC Foundation.  First Floor  |  30 Cannon Street  |  London EC4M 6XH  |  UK.  www.iasb.org</a:t>
            </a: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f6062"/>
                </a:solidFill>
                <a:latin typeface="Arial"/>
              </a:rPr>
              <a:t>Practical use of IFRS taxonomy</a:t>
            </a:r>
            <a:endParaRPr b="1" lang="en-US" sz="3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8520" y="1509840"/>
            <a:ext cx="849780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1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62"/>
                </a:solidFill>
                <a:latin typeface="Arial"/>
              </a:rPr>
              <a:t>Trends in adoption and implementation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62"/>
                </a:solidFill>
                <a:latin typeface="Arial"/>
              </a:rPr>
              <a:t>XBRL for IFRS conversion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62"/>
                </a:solidFill>
                <a:latin typeface="Arial"/>
              </a:rPr>
              <a:t>Translations of IFRS and IFRS Taxonomy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825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62"/>
                </a:solidFill>
                <a:latin typeface="Arial"/>
              </a:rPr>
              <a:t>Extending the IFRS Taxonomy</a:t>
            </a:r>
            <a:endParaRPr b="0" lang="en-US" sz="22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8 IASC Foundation.  First Floor  |  30 Cannon Street  |  London EC4M 6XH  |  UK.  www.iasb.org</a:t>
            </a: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337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f6062"/>
                </a:solidFill>
                <a:latin typeface="Arial"/>
              </a:rPr>
              <a:t>Trends in adoption and implementation</a:t>
            </a:r>
            <a:endParaRPr b="1" lang="en-US" sz="28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8520" y="1437840"/>
            <a:ext cx="84978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10000"/>
              </a:lnSpc>
              <a:spcBef>
                <a:spcPts val="751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6062"/>
                </a:solidFill>
                <a:latin typeface="Arial"/>
              </a:rPr>
              <a:t>XBRL is not only for listed companies</a:t>
            </a:r>
            <a:endParaRPr b="0" lang="en-US" sz="20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751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6062"/>
                </a:solidFill>
                <a:latin typeface="Arial"/>
              </a:rPr>
              <a:t>US, Japan and IASCF are working together to align the architecture of their taxonomy</a:t>
            </a:r>
            <a:endParaRPr b="0" lang="en-US" sz="20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751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6062"/>
                </a:solidFill>
                <a:latin typeface="Arial"/>
              </a:rPr>
              <a:t>There is clearly a move from voluntary to mandatory filing</a:t>
            </a:r>
            <a:endParaRPr b="0" lang="en-US" sz="20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751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6062"/>
                </a:solidFill>
                <a:latin typeface="Arial"/>
              </a:rPr>
              <a:t>More and more global initiatives are emerging (SBR, NTP…)</a:t>
            </a:r>
            <a:endParaRPr b="0" lang="en-US" sz="20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751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6062"/>
                </a:solidFill>
                <a:latin typeface="Arial"/>
              </a:rPr>
              <a:t>Software solutions and implementing services are available and affordable</a:t>
            </a:r>
            <a:endParaRPr b="0" lang="en-US" sz="2000" spc="-1" strike="noStrike">
              <a:solidFill>
                <a:srgbClr val="5f6062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spcBef>
                <a:spcPts val="751"/>
              </a:spcBef>
              <a:buClr>
                <a:srgbClr val="b31e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6062"/>
                </a:solidFill>
                <a:latin typeface="Arial"/>
              </a:rPr>
              <a:t>The IFRSs are adopted (permitted or required) in over 100 countries. XBRL is part of implementation</a:t>
            </a:r>
            <a:endParaRPr b="0" lang="en-US" sz="2000" spc="-1" strike="noStrike">
              <a:solidFill>
                <a:srgbClr val="5f60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8 IASC Foundation.  First Floor  |  30 Cannon Street  |  London EC4M 6XH  |  UK.  www.iasb.org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6:21:21Z</dcterms:created>
  <dc:creator>Duncan Shaw</dc:creator>
  <dc:description/>
  <dc:language>en-US</dc:language>
  <cp:lastModifiedBy>oservais</cp:lastModifiedBy>
  <dcterms:modified xsi:type="dcterms:W3CDTF">2009-02-19T08:19:05Z</dcterms:modified>
  <cp:revision>202</cp:revision>
  <dc:subject/>
  <dc:title>Slide 1</dc:title>
</cp:coreProperties>
</file>